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7EFA-7519-4E89-9091-825AA7D41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7B24-A4CB-4135-B42A-EEC089E9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5BE3-EB0A-4022-AE73-78B2E0203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349B-115C-40C4-820E-A6D10EB4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A038-720C-402D-87CE-B6740B9B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974B-5530-4DC1-815F-5E96B0B0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7931-2B89-434B-980B-A59C52C4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B972-A852-46CB-B6ED-FAF64C7D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1549-2DA0-4385-AD13-28406D98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2077-8280-4952-8199-2EBEDAB3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F686-9723-4191-B210-6EAF1C0F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EC3E-7CE9-4E35-BCD3-1587F3CE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FA35-B926-4DFA-8DD5-FF984E54F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71640" y="549360"/>
          <a:ext cx="6984720" cy="4911120"/>
        </p:xfrm>
        <a:graphic>
          <a:graphicData uri="http://schemas.openxmlformats.org/drawingml/2006/table">
            <a:tbl>
              <a:tblPr/>
              <a:tblGrid>
                <a:gridCol w="1164240"/>
                <a:gridCol w="1164240"/>
                <a:gridCol w="1163880"/>
                <a:gridCol w="1163880"/>
                <a:gridCol w="1164240"/>
                <a:gridCol w="1164240"/>
              </a:tblGrid>
              <a:tr h="122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R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a7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O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>
                        <a:alpha val="9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TT M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22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ND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a7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D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>
                        <a:alpha val="9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22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ER-VIL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a7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>
                        <a:alpha val="9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O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22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RGHI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a7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DR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fca2">
                        <a:alpha val="9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13:22:20Z</dcterms:created>
  <dc:creator>Dolmen</dc:creator>
  <dc:description/>
  <dc:language>en-US</dc:language>
  <cp:lastModifiedBy>Dolmen</cp:lastModifiedBy>
  <dcterms:modified xsi:type="dcterms:W3CDTF">2008-09-03T13:31:27Z</dcterms:modified>
  <cp:revision>3</cp:revision>
  <dc:subject/>
  <dc:title>Lysbilde 1</dc:title>
</cp:coreProperties>
</file>